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9E9F1-1BFE-4E9F-B8D5-8DDBF72C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A87C0-9386-4CD8-B037-046E8EC6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7D11B-11B7-413E-91C2-0C6D2820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3C84-06AF-41D0-BFCE-F69972F8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8C41-6E22-4984-82E6-3DF21FC2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0C10-819E-43FF-811E-069248B0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4D99-212E-455F-ABBA-635A5317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4258-C0EC-43C8-A35C-33FB4A3F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5849-CBDB-4D67-AE36-2EF82AA3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9462-6A5C-4DEA-9890-336B562C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35F9-DA1C-4F8D-A412-C022F10E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C212-F07E-4E30-A61E-D81D0A03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BAE8-859A-4689-9F18-14D1BC10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621C-2A5B-496D-AD52-A7535FFC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CAB3-ECFB-4CB5-8052-5A0BC399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8B05-F091-45BC-99C8-450D1D88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5E25-F867-4689-BA9E-6A83C365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44F0B-9925-49E6-9E88-26793C48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9AE4E-2A20-4E5F-BAFB-8DA11523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2039-CB05-4BA7-9ABD-6A937933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F62E-D3B8-466C-8CC4-B1D7F636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F5855-C775-4B41-AA51-76537215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1D807-10C2-48D0-A245-E4B6CE1C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4D4E4-FB56-4BF8-A140-B7651E32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1010-1F16-4A6B-B849-0BF80B13F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DE2F-ADC3-4E0F-8D10-DB4CE1DCE5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ffin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reak the Affine cipher all that is necessary is to find the substitution for two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say plaintext “e” is represented in the ciphertext by “c” and plaintext “t” is represented in the ciphertext by “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wo substitutions define to affine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9720" y="4114800"/>
            <a:ext cx="80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= a*4 + b mod 26 (since e – character 4 is replaced by c – character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 = a*19 + b mod 26 (since t – character 19 is replaced by f – character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3840" y="5105520"/>
            <a:ext cx="71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the two equations for a and b results in the affine key (21,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affine equ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c = 21*p + 22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EE7D-C242-4BA0-8F4D-54C8CE32CC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solve the equations provided you find at least two correct sub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6705720" cy="334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581280" y="2971800"/>
            <a:ext cx="1295640" cy="685800"/>
          </a:xfrm>
          <a:prstGeom prst="wedgeRoundRectCallout">
            <a:avLst>
              <a:gd name="adj1" fmla="val -45953"/>
              <a:gd name="adj2" fmla="val 6990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514600"/>
            <a:ext cx="1295640" cy="380880"/>
          </a:xfrm>
          <a:prstGeom prst="wedgeRoundRectCallout">
            <a:avLst>
              <a:gd name="adj1" fmla="val -45953"/>
              <a:gd name="adj2" fmla="val 16583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on 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276720"/>
            <a:ext cx="1905120" cy="1143000"/>
          </a:xfrm>
          <a:prstGeom prst="wedgeRoundRectCallout">
            <a:avLst>
              <a:gd name="adj1" fmla="val -47250"/>
              <a:gd name="adj2" fmla="val 8861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is appears to be plaintext then you were cor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wise try another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5228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2FE72-1CAC-4164-9B91-9DC74BE7FB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3T00:30:51Z</dcterms:modified>
  <cp:revision>31</cp:revision>
  <dc:subject/>
  <dc:title>CAP Cryptographic Analysis Program</dc:title>
</cp:coreProperties>
</file>